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BC4-6B0B-4E58-8859-9CDA582E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C7F-3E1C-4CF2-8B0B-80459F2C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EFC-AD10-437A-978E-678E97BF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308-A108-47EB-863B-DCFF4B06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595-D24A-4C09-8011-D3417DF6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4C6-CB0B-41FD-A486-2F8D5C6A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F59-ED60-442F-B69A-BBA2F10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A9E-EA8E-46C2-A9F5-80469F6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484-7F1F-49D6-9E36-F5C766B5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71A-2764-4E5B-9BBD-F93CE05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F3A-C877-4ABB-A75F-D29C050E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D5F-7C1D-416F-ADBF-65F63A5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5B65-AC20-4106-AE5C-AC2FBC66B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You Are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A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urse of Study for the New Chil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736" b="0"/>
          <a:stretch/>
        </p:blipFill>
        <p:spPr>
          <a:xfrm>
            <a:off x="2743200" y="2133720"/>
            <a:ext cx="3687840" cy="3305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76520"/>
            <a:ext cx="838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cts 2:36-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Therefore let all the house of Israel know assuredly that God has made this Jesus, whom you crucified, both Lord and Christ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w when they heard this, they were cut to the heart, and said to Peter and the rest of the apostles, "Men and brethren, what shall we do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For the promise is to you and to your children, and to all who are afar off, as many as the Lord our God will call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th many other words he testified and exhorted them, saying, "Be saved from this perverse generation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those who gladly received his word were baptized; and that day about three thousand souls were added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eard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362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Romans 10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en faith comes by hearing, and hearing by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John 8: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Therefore I said to you that you will die in your sins; for if you do not believe that I am He, you will die in your sin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Mark 16: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He who believes and is baptized will be saved; but he who does not believe will be condemned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epented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6668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nfessed faith in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6668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Romans 10:9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that if you confess with your mouth the Lord Jesus and believe in your heart that God has raised Him from the dead, you will be sa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ith the heart one believes unto righteousness, and with the mouth confession is made unto sal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baptized into Christ for the remission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66688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Peter said to them, "Repent, and let every one of you be baptized in the name of Jesus Christ for the remission of sins; and you shall receive the gift of the Holy Spiri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added by the Lord to His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6668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2: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aising God and having favor with all the people. And the Lord added to the church daily those who were being sa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eard the wor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believed in Jesus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repented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nfessed faith in Christ as the Son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baptized into Christ for the remission of your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ere added by the Lord to His chu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12408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Acts 11: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when he had found him, he brought him to Antioch. So it was that for a whole year they assembled with the church and taught a great many people. And the disciples were first called Christians in Antio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133720"/>
            <a:ext cx="5715000" cy="642600"/>
          </a:xfrm>
          <a:prstGeom prst="rect">
            <a:avLst/>
          </a:prstGeom>
          <a:solidFill>
            <a:srgbClr val="00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OU ARE A CHRISTI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by feeding on the wor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s 20: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 transformed lif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mans 12:1-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live as a chil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John 3: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up in Christ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Peter 2:1-2; 2 Peter 3:1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grow by feeding on the word of God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s 20: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develop a healthy spiritual appetite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tthew 5: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t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lf-contro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evera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odline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otherly kindne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676520"/>
            <a:ext cx="815364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33cc"/>
                </a:solidFill>
                <a:uFillTx/>
                <a:latin typeface="Arial"/>
              </a:rPr>
              <a:t>2 Peter 1:5-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ut also for this very reason, giving all diligence, add to your faith virtue, to virtue knowledge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knowledge self-control, to self-control perseverance, to perseverance godlines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godliness brotherly kindness, and to brotherly kindness lov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if these things are yours and abound, you will be neither barren nor unfruitful in the knowledge of our Lord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he who lacks these things is shortsighted, even to blindness, and has forgotten that he was cleansed from his old si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erefore, brethren, be even more diligent to make your call and election sure, for if you do these things you will never stumbl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1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or so an entrance will be supplied to you abundantly into the everlasting kingdom of our Lord and Savior Jesus Chris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What Is Expected Of You Now That You Ar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4000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Can You Grow As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various individuals to answer the questions in class, instead of only a few volunt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xpectations for this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all of us to put forth effort in this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all come to class with lessons pre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various individuals to answer the questions in class, instead of only a few volunt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expect that we will “grow in the grace and knowledge of our Lord and Savior Jesus Christ” (2 Pet. 3: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You Are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A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Garamond"/>
                <a:ea typeface="바탕"/>
              </a:rPr>
              <a:t>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792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ourse of Study for the New Child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736" b="0"/>
          <a:stretch/>
        </p:blipFill>
        <p:spPr>
          <a:xfrm>
            <a:off x="2743200" y="2133720"/>
            <a:ext cx="3687840" cy="330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33320" y="5943600"/>
            <a:ext cx="22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You Are A CHRIST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33cc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Did You Become A Christ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838080"/>
            <a:ext cx="57150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47:07Z</dcterms:created>
  <dc:creator>Dave</dc:creator>
  <dc:description/>
  <dc:language>en-US</dc:language>
  <cp:lastModifiedBy>Dave</cp:lastModifiedBy>
  <dcterms:modified xsi:type="dcterms:W3CDTF">2011-12-27T20:12:23Z</dcterms:modified>
  <cp:revision>6</cp:revision>
  <dc:subject/>
  <dc:title>Slide 1</dc:title>
</cp:coreProperties>
</file>