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2F5D9-6395-482A-A1EB-2E786CA4E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F3B7E-A405-46D9-A719-447A039A5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8FF08-D14A-4C03-83BD-38D5BCB8C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20F7-9F6B-45D5-9E6E-7125F236C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E86D-941B-463E-BD6A-6800F4EC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CC01-9572-40F3-A99B-C57B0A4AD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CB99-CCDE-470B-A6B8-A7F26E52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1B12-E068-422E-BB3D-C863F56E8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D7A7-A7A0-4ABD-87D0-8F6F618E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2168-4F27-4794-8E70-6A350851A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8A85-9F47-4EEB-A828-338AD3F71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3CFE-250C-4BF8-BC04-CF73F9B97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0831-C66E-4394-A16B-DF8BFBFFE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501560" y="5791320"/>
            <a:ext cx="62265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9</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dance At Assemblies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143000" y="350532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0: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The cup of blessing which we bless, is it not the communion of the blood of Christ? The bread which we break, is it not the communion of the body of Chr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For we, though many, are one bread and one body; for we all partake of that one bread.</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What kind of church would this be if everyone were like 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is an opportunity to commune with Chris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members have the same responsibil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What kind of church would this be if everyone were like m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mbers of the church are responsible for edifying one another.</a:t>
            </a:r>
            <a:endParaRPr b="0" lang="en-US" sz="2800" spc="-1" strike="noStrike">
              <a:solidFill>
                <a:srgbClr val="000000"/>
              </a:solidFill>
              <a:latin typeface="Arial"/>
            </a:endParaRPr>
          </a:p>
        </p:txBody>
      </p:sp>
      <p:sp>
        <p:nvSpPr>
          <p:cNvPr id="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p:txBody>
      </p:sp>
      <p:sp>
        <p:nvSpPr>
          <p:cNvPr id="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43000" y="358128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5:19-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speaking to one another in psalms and hymns and spiritual songs, singing and making melody in your heart to the Lo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giving thanks always for all things to God the Father in the name of our Lord Jesus Christ…</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57200" y="4343400"/>
            <a:ext cx="8381880" cy="21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1 Corinthians 16:1-2</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r>
              <a:rPr b="0" lang="en-US" sz="2300" spc="-1" strike="noStrike">
                <a:solidFill>
                  <a:srgbClr val="000000"/>
                </a:solidFill>
                <a:latin typeface="Arial"/>
              </a:rPr>
              <a:t> Now concerning the collection for the saints, as I have given orders to the churches of Galatia, so you must do also:</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0" lang="en-US" sz="2300" spc="-1" strike="noStrike">
                <a:solidFill>
                  <a:srgbClr val="000000"/>
                </a:solidFill>
                <a:latin typeface="Arial"/>
              </a:rPr>
              <a:t> On the first day of the week let each one of you lay something aside, storing up as he may prosper, that there be no collections when I come.</a:t>
            </a:r>
            <a:endParaRPr b="0" lang="en-US" sz="23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rist has commanded that we remember Him in the Lord’s Supper.</a:t>
            </a:r>
            <a:endParaRPr b="0" lang="en-US" sz="26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lnSpc>
                <a:spcPct val="90000"/>
              </a:lnSpc>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feed on the word of God in order to grow.</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join in publicly offering God praise &amp; thanksgiving.</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member needs to give on the first day of the week.</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rist has commanded that we remember Him in the Lord’s Supper.</a:t>
            </a:r>
            <a:endParaRPr b="0" lang="en-US" sz="2600" spc="-1" strike="noStrike">
              <a:solidFill>
                <a:srgbClr val="000000"/>
              </a:solidFill>
              <a:latin typeface="Arial"/>
            </a:endParaRPr>
          </a:p>
          <a:p>
            <a:pPr lvl="1" marL="1168560" indent="-711360">
              <a:lnSpc>
                <a:spcPct val="9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 members need to be involved in proclaiming the Lord’s death until He comes.</a:t>
            </a:r>
            <a:endParaRPr b="0" lang="en-US" sz="26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0">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a:t>
            </a:r>
            <a:endParaRPr b="0" lang="en-US" sz="2800" spc="-1" strike="noStrike">
              <a:solidFill>
                <a:srgbClr val="000000"/>
              </a:solidFill>
              <a:latin typeface="Arial"/>
            </a:endParaRPr>
          </a:p>
        </p:txBody>
      </p:sp>
      <p:sp>
        <p:nvSpPr>
          <p:cNvPr id="1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19320" y="34290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erefore, to him who knows to do good and does not do it, to him it is sin.</a:t>
            </a:r>
            <a:endParaRPr b="0" lang="en-US" sz="2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p:txBody>
      </p:sp>
      <p:sp>
        <p:nvSpPr>
          <p:cNvPr id="12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21932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Galatians 6:4-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But let each one examine his own work, and then he will have rejoicing in himself alone, and not in an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For each one shall bear his own load.</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19320" y="4267080"/>
            <a:ext cx="7010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James 5:19-2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rethren, if anyone among you wanders from the truth, and someone turns him ba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let him know that he who turns a sinner from the error of his way will save a soul from death and cover a multitude of sins.</a:t>
            </a:r>
            <a:endParaRPr b="0" lang="en-US" sz="24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914400" y="5105520"/>
            <a:ext cx="754380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Matthew 18:6</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a:t>
            </a:r>
            <a:r>
              <a:rPr b="0" lang="en-US" sz="2200" spc="-1" strike="noStrike">
                <a:solidFill>
                  <a:srgbClr val="000000"/>
                </a:solidFill>
                <a:latin typeface="Arial"/>
              </a:rPr>
              <a:t> "But whoever causes one of these little ones who believe in Me to sin, it would be better for him if a millstone were hung around his neck, and he were drowned in the depth of the sea.</a:t>
            </a:r>
            <a:r>
              <a:rPr b="0" lang="en-US" sz="2200" spc="-1" strike="noStrike">
                <a:solidFill>
                  <a:srgbClr val="000000"/>
                </a:solidFill>
                <a:latin typeface="Garamond"/>
              </a:rPr>
              <a:t>"</a:t>
            </a:r>
            <a:endParaRPr b="0" lang="en-US" sz="22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a sin? </a:t>
            </a:r>
            <a:r>
              <a:rPr b="1" lang="en-US" sz="2800" spc="-1" strike="noStrike">
                <a:solidFill>
                  <a:srgbClr val="ff0000"/>
                </a:solidFill>
                <a:latin typeface="Arial"/>
              </a:rPr>
              <a:t>YES!</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not doing your part in the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creating a burden that distracts from the Lord’s work.</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setting a bad example that could lead others to sin.</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giving non-Christians the wrong impression of the church.</a:t>
            </a:r>
            <a:endParaRPr b="0" lang="en-US" sz="28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p:txBody>
      </p:sp>
      <p:sp>
        <p:nvSpPr>
          <p:cNvPr id="1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5: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Now we exhort you, brethren, warn those who are unruly, comfort the fainthearted, uphold the weak, be patient with all.</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143000" y="2057400"/>
            <a:ext cx="655308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tion is commended in the following pass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a, p. 34</a:t>
            </a:r>
            <a:endParaRPr b="0" lang="en-US" sz="2800" spc="-1" strike="noStrike">
              <a:solidFill>
                <a:srgbClr val="000000"/>
              </a:solidFill>
              <a:latin typeface="Arial"/>
            </a:endParaRPr>
          </a:p>
        </p:txBody>
      </p:sp>
      <p:sp>
        <p:nvSpPr>
          <p:cNvPr id="161" name=""/>
          <p:cNvSpPr/>
          <p:nvPr/>
        </p:nvSpPr>
        <p:spPr>
          <a:xfrm>
            <a:off x="1525680" y="3276720"/>
            <a:ext cx="4358520" cy="520560"/>
          </a:xfrm>
          <a:prstGeom prst="rect">
            <a:avLst/>
          </a:prstGeom>
          <a:noFill/>
          <a:ln w="0">
            <a:noFill/>
          </a:ln>
        </p:spPr>
        <p:style>
          <a:lnRef idx="0"/>
          <a:fillRef idx="0"/>
          <a:effectRef idx="0"/>
          <a:fontRef idx="minor"/>
        </p:style>
        <p:txBody>
          <a:bodyPr wrap="none" lIns="90000" rIns="90000" tIns="46800" bIns="46800" anchor="t">
            <a:spAutoFit/>
          </a:bodyPr>
          <a:p>
            <a:pPr marL="692280" indent="-6922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ssalonians 5:14.</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5: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Now we exhort you, brethren, warn those who are unruly, comfort the fainthearted, uphold the weak, be patient with all.</a:t>
            </a:r>
            <a:endParaRPr b="0" lang="en-US" sz="2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Now I urge you, brethren, note those who cause divisions and offenses, contrary to the doctrine which you learned, and avoid them.</a:t>
            </a:r>
            <a:endParaRPr b="0" lang="en-US" sz="2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143000" y="2057400"/>
            <a:ext cx="655308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tion is commended in the following pass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
          <p:cNvSpPr/>
          <p:nvPr/>
        </p:nvSpPr>
        <p:spPr>
          <a:xfrm>
            <a:off x="2751480" y="1523880"/>
            <a:ext cx="344052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b, p. 34</a:t>
            </a:r>
            <a:endParaRPr b="0" lang="en-US" sz="2800" spc="-1" strike="noStrike">
              <a:solidFill>
                <a:srgbClr val="000000"/>
              </a:solidFill>
              <a:latin typeface="Arial"/>
            </a:endParaRPr>
          </a:p>
        </p:txBody>
      </p:sp>
      <p:sp>
        <p:nvSpPr>
          <p:cNvPr id="174" name=""/>
          <p:cNvSpPr/>
          <p:nvPr/>
        </p:nvSpPr>
        <p:spPr>
          <a:xfrm>
            <a:off x="1526400" y="3276720"/>
            <a:ext cx="3287160" cy="520560"/>
          </a:xfrm>
          <a:prstGeom prst="rect">
            <a:avLst/>
          </a:prstGeom>
          <a:noFill/>
          <a:ln w="0">
            <a:noFill/>
          </a:ln>
        </p:spPr>
        <p:style>
          <a:lnRef idx="0"/>
          <a:fillRef idx="0"/>
          <a:effectRef idx="0"/>
          <a:fontRef idx="minor"/>
        </p:style>
        <p:txBody>
          <a:bodyPr wrap="none" lIns="90000" rIns="90000" tIns="46800" bIns="46800" anchor="t">
            <a:spAutoFit/>
          </a:bodyPr>
          <a:p>
            <a:pPr marL="692280" indent="-6922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mans 16:1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43000" y="37339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Now I urge you, brethren, note those who cause divisions and offenses, contrary to the doctrine which you learned, and avoid them.</a:t>
            </a:r>
            <a:endParaRPr b="0" lang="en-US" sz="2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143000" y="4648320"/>
            <a:ext cx="7162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0" lang="en-US" sz="2400" spc="-1" strike="noStrike">
                <a:solidFill>
                  <a:srgbClr val="000000"/>
                </a:solidFill>
                <a:latin typeface="Arial"/>
              </a:rPr>
              <a:t> But we command you, brethren, in the name of our Lord Jesus Christ, that you withdraw from every brother who walks disorderly and not according to the tradition which he received from us.</a:t>
            </a:r>
            <a:endParaRPr b="0" lang="en-US" sz="24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cording to 2 Thessalonians 3:6, is to be done to a brother who walks disorderly?</a:t>
            </a:r>
            <a:endParaRPr b="0" lang="en-US" sz="2800" spc="-1" strike="noStrike">
              <a:solidFill>
                <a:srgbClr val="000000"/>
              </a:solidFill>
              <a:latin typeface="Arial"/>
            </a:endParaRPr>
          </a:p>
        </p:txBody>
      </p:sp>
      <p:sp>
        <p:nvSpPr>
          <p:cNvPr id="18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34</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143000" y="4648320"/>
            <a:ext cx="7162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0" lang="en-US" sz="2400" spc="-1" strike="noStrike">
                <a:solidFill>
                  <a:srgbClr val="000000"/>
                </a:solidFill>
                <a:latin typeface="Arial"/>
              </a:rPr>
              <a:t> But we command you, brethren, in the name of our Lord Jesus Christ, that you withdraw from every brother who walks disorderly and not according to the tradition which he received from us.</a:t>
            </a:r>
            <a:endParaRPr b="0" lang="en-US" sz="24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5800" y="4419720"/>
            <a:ext cx="81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14-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r>
              <a:rPr b="0" lang="en-US" sz="2400" spc="-1" strike="noStrike">
                <a:solidFill>
                  <a:srgbClr val="000000"/>
                </a:solidFill>
                <a:latin typeface="Arial"/>
              </a:rPr>
              <a:t> And if anyone does not obey our word in this epistle, note that person and do not keep company with him, that he may be asha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0" lang="en-US" sz="2400" spc="-1" strike="noStrike">
                <a:solidFill>
                  <a:srgbClr val="000000"/>
                </a:solidFill>
                <a:latin typeface="Arial"/>
              </a:rPr>
              <a:t> Yet do not count him as an enemy, but admonish him as a brother.</a:t>
            </a:r>
            <a:endParaRPr b="0" lang="en-US" sz="24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2 Thessalonians 3:14 say is one of the purposes of discipline?</a:t>
            </a:r>
            <a:endParaRPr b="0" lang="en-US" sz="2800" spc="-1" strike="noStrike">
              <a:solidFill>
                <a:srgbClr val="000000"/>
              </a:solidFill>
              <a:latin typeface="Arial"/>
            </a:endParaRPr>
          </a:p>
        </p:txBody>
      </p:sp>
      <p:sp>
        <p:nvSpPr>
          <p:cNvPr id="20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34</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85800" y="4419720"/>
            <a:ext cx="8153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hessalonians 3:14-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a:t>
            </a:r>
            <a:r>
              <a:rPr b="0" lang="en-US" sz="2400" spc="-1" strike="noStrike">
                <a:solidFill>
                  <a:srgbClr val="000000"/>
                </a:solidFill>
                <a:latin typeface="Arial"/>
              </a:rPr>
              <a:t> And if anyone does not obey our word in this epistle, note that person and do not keep company with him, that he may be asham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r>
              <a:rPr b="0" lang="en-US" sz="2400" spc="-1" strike="noStrike">
                <a:solidFill>
                  <a:srgbClr val="000000"/>
                </a:solidFill>
                <a:latin typeface="Arial"/>
              </a:rPr>
              <a:t> Yet do not count him as an enemy, but admonish him as a brother.</a:t>
            </a:r>
            <a:endParaRPr b="0" lang="en-US" sz="24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38080" y="2666880"/>
            <a:ext cx="80773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Galatians 6: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0" lang="en-US" sz="26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6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371240"/>
            <a:ext cx="8229600" cy="533412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s strengthened as we faithfully assemble together to worship Him.</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Galatians 6:1, what should brethren seek to do with an erring brother?</a:t>
            </a:r>
            <a:endParaRPr b="0" lang="en-US" sz="2800" spc="-1" strike="noStrike">
              <a:solidFill>
                <a:srgbClr val="000000"/>
              </a:solidFill>
              <a:latin typeface="Arial"/>
            </a:endParaRPr>
          </a:p>
        </p:txBody>
      </p:sp>
      <p:sp>
        <p:nvSpPr>
          <p:cNvPr id="21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34</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38080" y="2666880"/>
            <a:ext cx="8077320" cy="2073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Galatians 6: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0" lang="en-US" sz="26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6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400"/>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thful members of the church must warn them.</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urch must withdraw from them if they refuse to repent.</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iritually-minded members must seek to restore them to faithfulness.</a:t>
            </a:r>
            <a:endParaRPr b="0" lang="en-US" sz="28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294920"/>
            <a:ext cx="8229600" cy="54104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If You Fail To Attend Regularl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ion Should The Church Take Toward Those Who Do Not Faithfully Worship?</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Should You Attend Every Service of The Local Church?</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 has commanded it.</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143000" y="3276720"/>
            <a:ext cx="7467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0:24-2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r>
              <a:rPr b="0" lang="en-US" sz="2800" spc="-1" strike="noStrike">
                <a:solidFill>
                  <a:srgbClr val="000000"/>
                </a:solidFill>
                <a:latin typeface="Arial"/>
              </a:rPr>
              <a:t> And let us consider one another in order to stir up love and good wor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r>
              <a:rPr b="0" lang="en-US" sz="2800" spc="-1" strike="noStrike">
                <a:solidFill>
                  <a:srgbClr val="000000"/>
                </a:solidFill>
                <a:latin typeface="Arial"/>
              </a:rPr>
              <a:t> not forsaking the assembling of ourselves together, as is the manner of some, but exhorting one another, and so much the more as you see the Day approaching.</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3-04T21:33:38Z</dcterms:modified>
  <cp:revision>39</cp:revision>
  <dc:subject/>
  <dc:title>Slide 1</dc:title>
</cp:coreProperties>
</file>