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9347B-7B89-4117-B261-25F85B4E3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C6A6F-51F9-47F7-BE41-4CD78E16F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B9A6A-8D22-47CA-930B-0F88B376D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17F98-00FE-4070-A57C-1769F29A2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B7131-E59E-4D07-B941-4742865EE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C580-E943-4DF6-9D70-B9BBFE5FF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3F689-86FD-445E-9F1F-E804501E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A690-D035-4471-BC56-F66FE74F3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66F67-B889-437D-A839-0F3C9A1D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862E8-BDB8-45E6-8D25-C315C264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0CB1-2782-4BE3-BFE5-0CC1EEFB5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C706-4A55-4664-A782-1AD9AA147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F2E3-34CC-44B8-BBC6-7725DB891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2801160" y="5791320"/>
            <a:ext cx="360216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7</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ship Of The Church</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1"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always instructed man concerning the proper manner in which to worship Him.</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always instructed man concerning the proper manner in which to worship Him.</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always instructed man concerning the proper manner in which to worship Him.</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es God want us to express our devotion for Him to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p:txBody>
      </p:sp>
      <p:sp>
        <p:nvSpPr>
          <p:cNvPr id="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a:p>
            <a:pPr lvl="2" marL="1523880" indent="-609480">
              <a:spcBef>
                <a:spcPts val="1500"/>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unleavened bread symbolizes His body.</a:t>
            </a:r>
            <a:endParaRPr b="0" lang="en-US" sz="2400" spc="-1" strike="noStrike">
              <a:solidFill>
                <a:srgbClr val="000000"/>
              </a:solidFill>
              <a:latin typeface="Arial"/>
            </a:endParaRPr>
          </a:p>
        </p:txBody>
      </p:sp>
      <p:sp>
        <p:nvSpPr>
          <p:cNvPr id="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a:p>
            <a:pPr lvl="2" marL="1523880" indent="-609480">
              <a:spcBef>
                <a:spcPts val="1500"/>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unleavened bread symbolizes His body.</a:t>
            </a:r>
            <a:endParaRPr b="0" lang="en-US" sz="2400" spc="-1" strike="noStrike">
              <a:solidFill>
                <a:srgbClr val="000000"/>
              </a:solidFill>
              <a:latin typeface="Arial"/>
            </a:endParaRPr>
          </a:p>
          <a:p>
            <a:pPr lvl="2" marL="1523880" indent="-609480">
              <a:spcBef>
                <a:spcPts val="1500"/>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fruit of the vine symbolizes His blood.</a:t>
            </a:r>
            <a:endParaRPr b="0" lang="en-US" sz="2400" spc="-1" strike="noStrike">
              <a:solidFill>
                <a:srgbClr val="000000"/>
              </a:solidFill>
              <a:latin typeface="Arial"/>
            </a:endParaRPr>
          </a:p>
        </p:txBody>
      </p:sp>
      <p:sp>
        <p:nvSpPr>
          <p:cNvPr id="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p:txBody>
      </p:sp>
      <p:sp>
        <p:nvSpPr>
          <p:cNvPr id="1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ord’s Supper commemorates the sacrificial death of Jesus Christ upon the cross for the sins of mankind.</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partake of the Lord’s Supper on the first day of the week (Acts 20:7).</a:t>
            </a:r>
            <a:endParaRPr b="0" lang="en-US" sz="2800" spc="-1" strike="noStrike">
              <a:solidFill>
                <a:srgbClr val="000000"/>
              </a:solidFill>
              <a:latin typeface="Arial"/>
            </a:endParaRPr>
          </a:p>
        </p:txBody>
      </p:sp>
      <p:sp>
        <p:nvSpPr>
          <p:cNvPr id="1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sing psalms, hymns, and spiritual songs (Ephesians 5:19).</a:t>
            </a: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sing psalms, hymns, and spiritual songs (Ephesians 5:19).</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ing in worship is intended to praise God and edify those who are present (Colossians 3:16).</a:t>
            </a: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p:txBody>
      </p:sp>
      <p:sp>
        <p:nvSpPr>
          <p:cNvPr id="1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several things for which Christians should pray (1 Timothy 2:1-8).</a:t>
            </a:r>
            <a:endParaRPr b="0" lang="en-US" sz="2800" spc="-1" strike="noStrike">
              <a:solidFill>
                <a:srgbClr val="000000"/>
              </a:solidFill>
              <a:latin typeface="Arial"/>
            </a:endParaRPr>
          </a:p>
        </p:txBody>
      </p:sp>
      <p:sp>
        <p:nvSpPr>
          <p:cNvPr id="1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several things for which Christians should pray (1 Timothy 2:1-8).</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to pray constantly (1 Thessalonians 5:17).</a:t>
            </a:r>
            <a:endParaRPr b="0" lang="en-US" sz="2800" spc="-1" strike="noStrike">
              <a:solidFill>
                <a:srgbClr val="000000"/>
              </a:solidFill>
              <a:latin typeface="Arial"/>
            </a:endParaRPr>
          </a:p>
        </p:txBody>
      </p:sp>
      <p:sp>
        <p:nvSpPr>
          <p:cNvPr id="1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1"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commanded to give as each one has prospered on the first day of the week (1 Corinthians 16:1-2).</a:t>
            </a:r>
            <a:endParaRPr b="0" lang="en-US" sz="2800" spc="-1" strike="noStrike">
              <a:solidFill>
                <a:srgbClr val="000000"/>
              </a:solidFill>
              <a:latin typeface="Arial"/>
            </a:endParaRPr>
          </a:p>
        </p:txBody>
      </p:sp>
      <p:sp>
        <p:nvSpPr>
          <p:cNvPr id="1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commanded to give as each one has prospered on the first day of the week (1 Corinthians 16:1-2).</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istians are expected to give cheerfully (2 Corinthians 9:6-7).</a:t>
            </a:r>
            <a:endParaRPr b="0" lang="en-US" sz="2800" spc="-1" strike="noStrike">
              <a:solidFill>
                <a:srgbClr val="000000"/>
              </a:solidFill>
              <a:latin typeface="Arial"/>
            </a:endParaRPr>
          </a:p>
        </p:txBody>
      </p:sp>
      <p:sp>
        <p:nvSpPr>
          <p:cNvPr id="1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p:txBody>
      </p:sp>
      <p:sp>
        <p:nvSpPr>
          <p:cNvPr id="1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p:txBody>
      </p:sp>
      <p:sp>
        <p:nvSpPr>
          <p:cNvPr id="1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aching must agree with God’s word (1 Peter 4:11).</a:t>
            </a:r>
            <a:endParaRPr b="0" lang="en-US" sz="2800" spc="-1" strike="noStrike">
              <a:solidFill>
                <a:srgbClr val="000000"/>
              </a:solidFill>
              <a:latin typeface="Arial"/>
            </a:endParaRPr>
          </a:p>
        </p:txBody>
      </p:sp>
      <p:sp>
        <p:nvSpPr>
          <p:cNvPr id="1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aching must agree with God’s word (1 Peter 4:11).</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listener must use the word of God to test the message (Acts 17:10-11).</a:t>
            </a:r>
            <a:endParaRPr b="0" lang="en-US" sz="28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Christians study God’s word when they assembled for worship (Acts 20:7).</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teaching must agree with God’s word (1 Peter 4:11).</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 listener must use the word of God to test the message (Acts 17:10-11).</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amp; Hearers have responsibilities toward one another.</a:t>
            </a: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1"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laim the “whole counsel of God” (Acts 20:27).</a:t>
            </a:r>
            <a:endParaRPr b="0" lang="en-US" sz="30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teach to tickle “itching ears” (2 Timothy 4:1-4).</a:t>
            </a:r>
            <a:endParaRPr b="0" lang="en-US" sz="30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y the word equally to all (1 Timothy 5:21).</a:t>
            </a:r>
            <a:endParaRPr b="0" lang="en-US" sz="30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ke heed to himself and his teaching (1 Timothy 4:16).</a:t>
            </a:r>
            <a:endParaRPr b="0" lang="en-US" sz="3000" spc="-1" strike="noStrike">
              <a:solidFill>
                <a:srgbClr val="000000"/>
              </a:solidFill>
              <a:latin typeface="Arial"/>
            </a:endParaRPr>
          </a:p>
        </p:txBody>
      </p:sp>
      <p:sp>
        <p:nvSpPr>
          <p:cNvPr id="1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sponsibilities Of A Teacher</a:t>
            </a:r>
            <a:endParaRPr b="0" lang="en-US" sz="32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5" name="PlaceHolder 2"/>
          <p:cNvSpPr>
            <a:spLocks noGrp="1"/>
          </p:cNvSpPr>
          <p:nvPr>
            <p:ph/>
          </p:nvPr>
        </p:nvSpPr>
        <p:spPr>
          <a:xfrm>
            <a:off x="456840" y="1676520"/>
            <a:ext cx="8381880" cy="4952880"/>
          </a:xfrm>
          <a:prstGeom prst="rect">
            <a:avLst/>
          </a:prstGeom>
          <a:noFill/>
          <a:ln w="0">
            <a:noFill/>
          </a:ln>
        </p:spPr>
        <p:txBody>
          <a:bodyPr anchor="t">
            <a:normAutofit/>
          </a:bodyPr>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ve a good &amp; honest heart (Luke 8:15).</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low the word to “prick” the heart (Acts 2:37).</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ladly receive the word (Acts 2:40).</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ceive the word with meekness (James 1:21).</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 discerning (Acts 17:11).</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 eager to hear (Matthew 5:6; Acts 10:33).</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ire to hear &amp; know all the word (Acts 10:33).</a:t>
            </a:r>
            <a:endParaRPr b="0" lang="en-US" sz="2600" spc="-1" strike="noStrike">
              <a:solidFill>
                <a:srgbClr val="000000"/>
              </a:solidFill>
              <a:latin typeface="Arial"/>
            </a:endParaRPr>
          </a:p>
          <a:p>
            <a:pPr lvl="1" marL="1168560" indent="-711360">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ire only the word of God (Matthew 15:9).</a:t>
            </a:r>
            <a:endParaRPr b="0" lang="en-US" sz="2600" spc="-1" strike="noStrike">
              <a:solidFill>
                <a:srgbClr val="000000"/>
              </a:solidFill>
              <a:latin typeface="Arial"/>
            </a:endParaRPr>
          </a:p>
        </p:txBody>
      </p:sp>
      <p:sp>
        <p:nvSpPr>
          <p:cNvPr id="1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sponsibilities Of A Hearer</a:t>
            </a:r>
            <a:endParaRPr b="0" lang="en-US" sz="32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the Lord’s Supper commemorat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ee 1 Corinthians 11:23-26). </a:t>
            </a:r>
            <a:endParaRPr b="0" lang="en-US" sz="2800" spc="-1" strike="noStrike">
              <a:solidFill>
                <a:srgbClr val="000000"/>
              </a:solidFill>
              <a:latin typeface="Arial"/>
            </a:endParaRPr>
          </a:p>
        </p:txBody>
      </p:sp>
      <p:sp>
        <p:nvSpPr>
          <p:cNvPr id="17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28</a:t>
            </a:r>
            <a:endParaRPr b="0" lang="en-US" sz="2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From Matthew 26:26-27, what are the elements of the Lord’s Supper?</a:t>
            </a:r>
            <a:endParaRPr b="0" lang="en-US" sz="2800" spc="-1" strike="noStrike">
              <a:solidFill>
                <a:srgbClr val="000000"/>
              </a:solidFill>
              <a:latin typeface="Arial"/>
            </a:endParaRPr>
          </a:p>
        </p:txBody>
      </p:sp>
      <p:sp>
        <p:nvSpPr>
          <p:cNvPr id="17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28</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43000" y="2057400"/>
            <a:ext cx="6705720" cy="262260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Using the example found in Acts 20:7…</a:t>
            </a:r>
            <a:endParaRPr b="0" lang="en-US" sz="2800" spc="-1" strike="noStrike">
              <a:solidFill>
                <a:srgbClr val="000000"/>
              </a:solidFill>
              <a:latin typeface="Arial"/>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68440" indent="-56844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en is one to partake of the Lord’s Supper?</a:t>
            </a:r>
            <a:endParaRPr b="0" lang="en-US" sz="2800" spc="-1" strike="noStrike">
              <a:solidFill>
                <a:srgbClr val="000000"/>
              </a:solidFill>
              <a:latin typeface="Arial"/>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68440" indent="-56844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often is one to partake of the Lord’s Supper? </a:t>
            </a:r>
            <a:endParaRPr b="0" lang="en-US" sz="2800" spc="-1" strike="noStrike">
              <a:solidFill>
                <a:srgbClr val="000000"/>
              </a:solidFill>
              <a:latin typeface="Arial"/>
            </a:endParaRPr>
          </a:p>
        </p:txBody>
      </p:sp>
      <p:sp>
        <p:nvSpPr>
          <p:cNvPr id="17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28</a:t>
            </a:r>
            <a:endParaRPr b="0" lang="en-US" sz="2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Ephesians 5:19, what kind of music is to be used in worship?</a:t>
            </a:r>
            <a:endParaRPr b="0" lang="en-US" sz="2800" spc="-1" strike="noStrike">
              <a:solidFill>
                <a:srgbClr val="000000"/>
              </a:solidFill>
              <a:latin typeface="Arial"/>
            </a:endParaRPr>
          </a:p>
        </p:txBody>
      </p:sp>
      <p:sp>
        <p:nvSpPr>
          <p:cNvPr id="183"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28</a:t>
            </a:r>
            <a:endParaRPr b="0" lang="en-US" sz="2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considering Colossians 3:16, are some reasons to sing?</a:t>
            </a:r>
            <a:endParaRPr b="0" lang="en-US" sz="2800" spc="-1" strike="noStrike">
              <a:solidFill>
                <a:srgbClr val="000000"/>
              </a:solidFill>
              <a:latin typeface="Arial"/>
            </a:endParaRPr>
          </a:p>
        </p:txBody>
      </p:sp>
      <p:sp>
        <p:nvSpPr>
          <p:cNvPr id="187"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28</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iting the teaching of 1 Timothy 2:1-8, for what should a Christian pray?</a:t>
            </a:r>
            <a:endParaRPr b="0" lang="en-US" sz="2800" spc="-1" strike="noStrike">
              <a:solidFill>
                <a:srgbClr val="000000"/>
              </a:solidFill>
              <a:latin typeface="Arial"/>
            </a:endParaRPr>
          </a:p>
        </p:txBody>
      </p:sp>
      <p:sp>
        <p:nvSpPr>
          <p:cNvPr id="19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29</a:t>
            </a:r>
            <a:endParaRPr b="0" lang="en-US" sz="2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often, according to 1 Thessalonians 5:17, should a Christian pray? What does that mean?</a:t>
            </a:r>
            <a:endParaRPr b="0" lang="en-US" sz="2800" spc="-1" strike="noStrike">
              <a:solidFill>
                <a:srgbClr val="000000"/>
              </a:solidFill>
              <a:latin typeface="Arial"/>
            </a:endParaRPr>
          </a:p>
        </p:txBody>
      </p:sp>
      <p:sp>
        <p:nvSpPr>
          <p:cNvPr id="19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29</a:t>
            </a:r>
            <a:endParaRPr b="0" lang="en-US" sz="2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en is the Christian to giv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ee 1 Corinthians 16:1-2).</a:t>
            </a:r>
            <a:endParaRPr b="0" lang="en-US" sz="2800" spc="-1" strike="noStrike">
              <a:solidFill>
                <a:srgbClr val="000000"/>
              </a:solidFill>
              <a:latin typeface="Arial"/>
            </a:endParaRPr>
          </a:p>
        </p:txBody>
      </p:sp>
      <p:sp>
        <p:nvSpPr>
          <p:cNvPr id="19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29</a:t>
            </a:r>
            <a:endParaRPr b="0" lang="en-US" sz="2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Based on the teaching of 2 Corinthians 9:6-7, how is the Christian to give?</a:t>
            </a:r>
            <a:endParaRPr b="0" lang="en-US" sz="2800" spc="-1" strike="noStrike">
              <a:solidFill>
                <a:srgbClr val="000000"/>
              </a:solidFill>
              <a:latin typeface="Arial"/>
            </a:endParaRPr>
          </a:p>
        </p:txBody>
      </p:sp>
      <p:sp>
        <p:nvSpPr>
          <p:cNvPr id="203"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29</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f one is going to teach, what does 1 Peter 4:11 say he should teac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Define your answer.</a:t>
            </a:r>
            <a:endParaRPr b="0" lang="en-US" sz="2800" spc="-1" strike="noStrike">
              <a:solidFill>
                <a:srgbClr val="000000"/>
              </a:solidFill>
              <a:latin typeface="Arial"/>
            </a:endParaRPr>
          </a:p>
        </p:txBody>
      </p:sp>
      <p:sp>
        <p:nvSpPr>
          <p:cNvPr id="207"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29</a:t>
            </a:r>
            <a:endParaRPr b="0" lang="en-US" sz="2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Matthew 15:9, what doctrines, if included in worship, make that worship vain?</a:t>
            </a:r>
            <a:endParaRPr b="0" lang="en-US" sz="2800" spc="-1" strike="noStrike">
              <a:solidFill>
                <a:srgbClr val="000000"/>
              </a:solidFill>
              <a:latin typeface="Arial"/>
            </a:endParaRPr>
          </a:p>
        </p:txBody>
      </p:sp>
      <p:sp>
        <p:nvSpPr>
          <p:cNvPr id="211"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1, p. 29</a:t>
            </a:r>
            <a:endParaRPr b="0" lang="en-US" sz="2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143000" y="2057400"/>
            <a:ext cx="6705720" cy="22269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ttitude was commended in those who listened to the apostle Paul’s preaching in Acts 17:10-11? Should we have that same attitude toda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Explain your answer.</a:t>
            </a:r>
            <a:endParaRPr b="0" lang="en-US" sz="2800" spc="-1" strike="noStrike">
              <a:solidFill>
                <a:srgbClr val="000000"/>
              </a:solidFill>
              <a:latin typeface="Arial"/>
            </a:endParaRPr>
          </a:p>
        </p:txBody>
      </p:sp>
      <p:sp>
        <p:nvSpPr>
          <p:cNvPr id="215"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2, p. 29</a:t>
            </a:r>
            <a:endParaRPr b="0" lang="en-US" sz="2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orship Must Be Authorized.</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rd’s Supper.</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inging.</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rayer.</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Giving.</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nstruction From The Word Of God.</a:t>
            </a:r>
            <a:endParaRPr b="0" lang="en-US" sz="3200" spc="-1" strike="noStrike">
              <a:solidFill>
                <a:srgbClr val="000000"/>
              </a:solidFill>
              <a:latin typeface="Arial"/>
            </a:endParaRPr>
          </a:p>
        </p:txBody>
      </p:sp>
      <p:sp>
        <p:nvSpPr>
          <p:cNvPr id="2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a:p>
            <a:pPr lvl="1" marL="1168560" indent="-711360">
              <a:spcBef>
                <a:spcPts val="29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orship—to make obeisance or do reverence to.</a:t>
            </a:r>
            <a:endParaRPr b="0" lang="en-US" sz="24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a:p>
            <a:pPr lvl="1" marL="1168560" indent="-711360">
              <a:spcBef>
                <a:spcPts val="29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orship—to make obeisance or do reverence to.</a:t>
            </a:r>
            <a:endParaRPr b="0" lang="en-US" sz="24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worshipers must worship God in spirit &amp; truth.</a:t>
            </a: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143000" y="175248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4: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r>
              <a:rPr b="0" lang="en-US" sz="2800" spc="-1" strike="noStrike">
                <a:solidFill>
                  <a:srgbClr val="000000"/>
                </a:solidFill>
                <a:latin typeface="Arial"/>
              </a:rPr>
              <a:t> "God is Spirit, and those who worship Him must worship in spirit and truth."</a:t>
            </a: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relationship involves worship.</a:t>
            </a:r>
            <a:endParaRPr b="0" lang="en-US" sz="2800" spc="-1" strike="noStrike">
              <a:solidFill>
                <a:srgbClr val="000000"/>
              </a:solidFill>
              <a:latin typeface="Arial"/>
            </a:endParaRPr>
          </a:p>
          <a:p>
            <a:pPr lvl="1" marL="1168560" indent="-711360">
              <a:spcBef>
                <a:spcPts val="29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orship—to make obeisance or do reverence to.</a:t>
            </a:r>
            <a:endParaRPr b="0" lang="en-US" sz="24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worshipers must worship God in spirit &amp; truth.</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25T23:13:22Z</dcterms:modified>
  <cp:revision>34</cp:revision>
  <dc:subject/>
  <dc:title>Slide 1</dc:title>
</cp:coreProperties>
</file>